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BDC-37B3-4B6B-B14A-BCCB57FB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39B-7946-4B1B-97EC-EC3236C9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62B-0D51-4BC6-8828-89641044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929-F380-4347-88A9-1654571C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DFF-DCB0-46B8-8C21-C6BD3E42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6AF-52FC-4480-8E28-A972142F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667-D57C-47D4-A4BE-B00CDCC9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33F-6089-4413-A79C-7C48895F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A15-522C-496D-BF96-2FE653C4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F52-500E-4C77-9ACB-CC898256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CED-E840-42ED-8702-A5D39479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ACE-3C86-4F6B-84DA-98511C77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7514-2F52-487D-B8C6-7625184C4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’s Voc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icroorganism that causes (or can cause)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gi are helpful—you can even eat them–and others are pathogens that will make you sick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pathogen invades an organism and begins growing in or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out that Ashley has a Staph infection.  It’s caused by a pathogen called Staphylococcus aure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sults when a body part, an organ, or an organ system does not function norm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n skin infection on my arm, but it’s being treated so I don’t think it will become diseas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g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dition able to be passed on to another organism (usually by cont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orry, blindness is not contagio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likely a pathogen is to caus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pathogen is highly virul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related to health that can be noticed by others (often a medical professional).  It can usually be measu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temperature was 103 degrees Fahrenhe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related to health that is experienced by the patient.  They are usually bodily changes that only the patient notices, but they can be hard to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aid that he felt tir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00:41:54Z</dcterms:created>
  <dc:creator>Andrew</dc:creator>
  <dc:description/>
  <dc:language>en-US</dc:language>
  <cp:lastModifiedBy>Andrew</cp:lastModifiedBy>
  <dcterms:modified xsi:type="dcterms:W3CDTF">2014-01-29T15:00:36Z</dcterms:modified>
  <cp:revision>9</cp:revision>
  <dc:subject/>
  <dc:title>Slide 1</dc:title>
</cp:coreProperties>
</file>